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3200638" cy="106918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ED094-FCD5-48E0-9824-9E7247ECA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160720" y="44640"/>
            <a:ext cx="38879280" cy="254880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8000"/>
                <a:tab algn="l" pos="6156360"/>
                <a:tab algn="l" pos="9234360"/>
              </a:tabLst>
            </a:pPr>
            <a:endParaRPr b="0" lang="en-US" sz="1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160720" y="2495160"/>
            <a:ext cx="38879280" cy="3364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676"/>
              </a:spcBef>
              <a:buNone/>
              <a:tabLst>
                <a:tab algn="l" pos="3078000"/>
                <a:tab algn="l" pos="6156360"/>
                <a:tab algn="l" pos="9234360"/>
              </a:tabLst>
            </a:pPr>
            <a:endParaRPr b="0" lang="en-US" sz="10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160720" y="6180120"/>
            <a:ext cx="38879280" cy="3364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676"/>
              </a:spcBef>
              <a:buNone/>
              <a:tabLst>
                <a:tab algn="l" pos="3078000"/>
                <a:tab algn="l" pos="6156360"/>
                <a:tab algn="l" pos="9234360"/>
              </a:tabLst>
            </a:pPr>
            <a:endParaRPr b="0" lang="en-US" sz="10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B28C5-4483-4575-ACEB-B201FB1CC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160720" y="44640"/>
            <a:ext cx="38879280" cy="254880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8000"/>
                <a:tab algn="l" pos="6156360"/>
                <a:tab algn="l" pos="9234360"/>
              </a:tabLst>
            </a:pPr>
            <a:endParaRPr b="0" lang="en-US" sz="1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160720" y="2495160"/>
            <a:ext cx="18973080" cy="3364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676"/>
              </a:spcBef>
              <a:buNone/>
              <a:tabLst>
                <a:tab algn="l" pos="3078000"/>
                <a:tab algn="l" pos="6156360"/>
                <a:tab algn="l" pos="9234360"/>
              </a:tabLst>
            </a:pPr>
            <a:endParaRPr b="0" lang="en-US" sz="10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2082760" y="2495160"/>
            <a:ext cx="18973080" cy="3364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676"/>
              </a:spcBef>
              <a:buNone/>
              <a:tabLst>
                <a:tab algn="l" pos="3078000"/>
                <a:tab algn="l" pos="6156360"/>
                <a:tab algn="l" pos="9234360"/>
              </a:tabLst>
            </a:pPr>
            <a:endParaRPr b="0" lang="en-US" sz="10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160720" y="6180120"/>
            <a:ext cx="18973080" cy="3364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676"/>
              </a:spcBef>
              <a:buNone/>
              <a:tabLst>
                <a:tab algn="l" pos="3078000"/>
                <a:tab algn="l" pos="6156360"/>
                <a:tab algn="l" pos="9234360"/>
              </a:tabLst>
            </a:pPr>
            <a:endParaRPr b="0" lang="en-US" sz="10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2082760" y="6180120"/>
            <a:ext cx="18973080" cy="3364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676"/>
              </a:spcBef>
              <a:buNone/>
              <a:tabLst>
                <a:tab algn="l" pos="3078000"/>
                <a:tab algn="l" pos="6156360"/>
                <a:tab algn="l" pos="9234360"/>
              </a:tabLst>
            </a:pPr>
            <a:endParaRPr b="0" lang="en-US" sz="10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99282-C5C4-4ECA-85FD-5690AADAC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160720" y="44640"/>
            <a:ext cx="38879280" cy="254880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8000"/>
                <a:tab algn="l" pos="6156360"/>
                <a:tab algn="l" pos="9234360"/>
              </a:tabLst>
            </a:pPr>
            <a:endParaRPr b="0" lang="en-US" sz="1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160720" y="2495160"/>
            <a:ext cx="12519000" cy="3364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676"/>
              </a:spcBef>
              <a:buNone/>
              <a:tabLst>
                <a:tab algn="l" pos="3078000"/>
                <a:tab algn="l" pos="6156360"/>
                <a:tab algn="l" pos="9234360"/>
              </a:tabLst>
            </a:pPr>
            <a:endParaRPr b="0" lang="en-US" sz="10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306120" y="2495160"/>
            <a:ext cx="12519000" cy="3364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676"/>
              </a:spcBef>
              <a:buNone/>
              <a:tabLst>
                <a:tab algn="l" pos="3078000"/>
                <a:tab algn="l" pos="6156360"/>
                <a:tab algn="l" pos="9234360"/>
              </a:tabLst>
            </a:pPr>
            <a:endParaRPr b="0" lang="en-US" sz="10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8451520" y="2495160"/>
            <a:ext cx="12519000" cy="3364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676"/>
              </a:spcBef>
              <a:buNone/>
              <a:tabLst>
                <a:tab algn="l" pos="3078000"/>
                <a:tab algn="l" pos="6156360"/>
                <a:tab algn="l" pos="9234360"/>
              </a:tabLst>
            </a:pPr>
            <a:endParaRPr b="0" lang="en-US" sz="10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160720" y="6180120"/>
            <a:ext cx="12519000" cy="3364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676"/>
              </a:spcBef>
              <a:buNone/>
              <a:tabLst>
                <a:tab algn="l" pos="3078000"/>
                <a:tab algn="l" pos="6156360"/>
                <a:tab algn="l" pos="9234360"/>
              </a:tabLst>
            </a:pPr>
            <a:endParaRPr b="0" lang="en-US" sz="10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306120" y="6180120"/>
            <a:ext cx="12519000" cy="3364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676"/>
              </a:spcBef>
              <a:buNone/>
              <a:tabLst>
                <a:tab algn="l" pos="3078000"/>
                <a:tab algn="l" pos="6156360"/>
                <a:tab algn="l" pos="9234360"/>
              </a:tabLst>
            </a:pPr>
            <a:endParaRPr b="0" lang="en-US" sz="10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8451520" y="6180120"/>
            <a:ext cx="12519000" cy="3364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676"/>
              </a:spcBef>
              <a:buNone/>
              <a:tabLst>
                <a:tab algn="l" pos="3078000"/>
                <a:tab algn="l" pos="6156360"/>
                <a:tab algn="l" pos="9234360"/>
              </a:tabLst>
            </a:pPr>
            <a:endParaRPr b="0" lang="en-US" sz="10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7A8DB-1E79-4659-B9E7-E87799D0F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160720" y="44640"/>
            <a:ext cx="38879280" cy="254880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8000"/>
                <a:tab algn="l" pos="6156360"/>
                <a:tab algn="l" pos="9234360"/>
              </a:tabLst>
            </a:pPr>
            <a:endParaRPr b="0" lang="en-US" sz="1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160720" y="2495160"/>
            <a:ext cx="38879280" cy="705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676"/>
              </a:spcBef>
              <a:buNone/>
              <a:tabLst>
                <a:tab algn="l" pos="0"/>
                <a:tab algn="l" pos="3078000"/>
                <a:tab algn="l" pos="6156360"/>
                <a:tab algn="l" pos="9234360"/>
              </a:tabLst>
            </a:pPr>
            <a:endParaRPr b="0" lang="en-US" sz="10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FCF19-6489-4382-A443-5492D71BA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160720" y="44640"/>
            <a:ext cx="38879280" cy="254880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8000"/>
                <a:tab algn="l" pos="6156360"/>
                <a:tab algn="l" pos="9234360"/>
              </a:tabLst>
            </a:pPr>
            <a:endParaRPr b="0" lang="en-US" sz="1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160720" y="2495160"/>
            <a:ext cx="38879280" cy="7054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676"/>
              </a:spcBef>
              <a:buNone/>
              <a:tabLst>
                <a:tab algn="l" pos="3078000"/>
                <a:tab algn="l" pos="6156360"/>
                <a:tab algn="l" pos="9234360"/>
              </a:tabLst>
            </a:pPr>
            <a:endParaRPr b="0" lang="en-US" sz="10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63499-7A46-4AF7-A352-A959E3653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160720" y="44640"/>
            <a:ext cx="38879280" cy="254880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8000"/>
                <a:tab algn="l" pos="6156360"/>
                <a:tab algn="l" pos="9234360"/>
              </a:tabLst>
            </a:pPr>
            <a:endParaRPr b="0" lang="en-US" sz="1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160720" y="2495160"/>
            <a:ext cx="18973080" cy="7054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676"/>
              </a:spcBef>
              <a:buNone/>
              <a:tabLst>
                <a:tab algn="l" pos="3078000"/>
                <a:tab algn="l" pos="6156360"/>
                <a:tab algn="l" pos="9234360"/>
              </a:tabLst>
            </a:pPr>
            <a:endParaRPr b="0" lang="en-US" sz="10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2082760" y="2495160"/>
            <a:ext cx="18973080" cy="7054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676"/>
              </a:spcBef>
              <a:buNone/>
              <a:tabLst>
                <a:tab algn="l" pos="3078000"/>
                <a:tab algn="l" pos="6156360"/>
                <a:tab algn="l" pos="9234360"/>
              </a:tabLst>
            </a:pPr>
            <a:endParaRPr b="0" lang="en-US" sz="10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17ABA-8BE6-47B0-A8AE-4FE51D1AD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160720" y="44640"/>
            <a:ext cx="38879280" cy="254880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8000"/>
                <a:tab algn="l" pos="6156360"/>
                <a:tab algn="l" pos="9234360"/>
              </a:tabLst>
            </a:pPr>
            <a:endParaRPr b="0" lang="en-US" sz="1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B3E23-1967-4E86-97D2-201D8EE5C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160720" y="428400"/>
            <a:ext cx="38879280" cy="82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676"/>
              </a:spcBef>
              <a:tabLst>
                <a:tab algn="l" pos="0"/>
                <a:tab algn="l" pos="3078000"/>
                <a:tab algn="l" pos="6156360"/>
                <a:tab algn="l" pos="9234360"/>
              </a:tabLst>
            </a:pPr>
            <a:endParaRPr b="0" lang="en-US" sz="10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82CB5-5F1D-4DE2-AA4E-1C0186811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160720" y="44640"/>
            <a:ext cx="38879280" cy="254880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8000"/>
                <a:tab algn="l" pos="6156360"/>
                <a:tab algn="l" pos="9234360"/>
              </a:tabLst>
            </a:pPr>
            <a:endParaRPr b="0" lang="en-US" sz="1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160720" y="2495160"/>
            <a:ext cx="18973080" cy="3364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676"/>
              </a:spcBef>
              <a:buNone/>
              <a:tabLst>
                <a:tab algn="l" pos="3078000"/>
                <a:tab algn="l" pos="6156360"/>
                <a:tab algn="l" pos="9234360"/>
              </a:tabLst>
            </a:pPr>
            <a:endParaRPr b="0" lang="en-US" sz="10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2082760" y="2495160"/>
            <a:ext cx="18973080" cy="7054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676"/>
              </a:spcBef>
              <a:buNone/>
              <a:tabLst>
                <a:tab algn="l" pos="3078000"/>
                <a:tab algn="l" pos="6156360"/>
                <a:tab algn="l" pos="9234360"/>
              </a:tabLst>
            </a:pPr>
            <a:endParaRPr b="0" lang="en-US" sz="10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160720" y="6180120"/>
            <a:ext cx="18973080" cy="3364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676"/>
              </a:spcBef>
              <a:buNone/>
              <a:tabLst>
                <a:tab algn="l" pos="3078000"/>
                <a:tab algn="l" pos="6156360"/>
                <a:tab algn="l" pos="9234360"/>
              </a:tabLst>
            </a:pPr>
            <a:endParaRPr b="0" lang="en-US" sz="10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D8F36-C016-442F-AFF9-065685049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160720" y="44640"/>
            <a:ext cx="38879280" cy="254880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8000"/>
                <a:tab algn="l" pos="6156360"/>
                <a:tab algn="l" pos="9234360"/>
              </a:tabLst>
            </a:pPr>
            <a:endParaRPr b="0" lang="en-US" sz="1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160720" y="2495160"/>
            <a:ext cx="18973080" cy="7054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676"/>
              </a:spcBef>
              <a:buNone/>
              <a:tabLst>
                <a:tab algn="l" pos="3078000"/>
                <a:tab algn="l" pos="6156360"/>
                <a:tab algn="l" pos="9234360"/>
              </a:tabLst>
            </a:pPr>
            <a:endParaRPr b="0" lang="en-US" sz="10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2082760" y="2495160"/>
            <a:ext cx="18973080" cy="3364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676"/>
              </a:spcBef>
              <a:buNone/>
              <a:tabLst>
                <a:tab algn="l" pos="3078000"/>
                <a:tab algn="l" pos="6156360"/>
                <a:tab algn="l" pos="9234360"/>
              </a:tabLst>
            </a:pPr>
            <a:endParaRPr b="0" lang="en-US" sz="10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2082760" y="6180120"/>
            <a:ext cx="18973080" cy="3364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676"/>
              </a:spcBef>
              <a:buNone/>
              <a:tabLst>
                <a:tab algn="l" pos="3078000"/>
                <a:tab algn="l" pos="6156360"/>
                <a:tab algn="l" pos="9234360"/>
              </a:tabLst>
            </a:pPr>
            <a:endParaRPr b="0" lang="en-US" sz="10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0F545-7284-4B44-8231-DF9C1083F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160720" y="44640"/>
            <a:ext cx="38879280" cy="254880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8000"/>
                <a:tab algn="l" pos="6156360"/>
                <a:tab algn="l" pos="9234360"/>
              </a:tabLst>
            </a:pPr>
            <a:endParaRPr b="0" lang="en-US" sz="1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160720" y="2495160"/>
            <a:ext cx="18973080" cy="3364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676"/>
              </a:spcBef>
              <a:buNone/>
              <a:tabLst>
                <a:tab algn="l" pos="3078000"/>
                <a:tab algn="l" pos="6156360"/>
                <a:tab algn="l" pos="9234360"/>
              </a:tabLst>
            </a:pPr>
            <a:endParaRPr b="0" lang="en-US" sz="10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2082760" y="2495160"/>
            <a:ext cx="18973080" cy="3364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676"/>
              </a:spcBef>
              <a:buNone/>
              <a:tabLst>
                <a:tab algn="l" pos="3078000"/>
                <a:tab algn="l" pos="6156360"/>
                <a:tab algn="l" pos="9234360"/>
              </a:tabLst>
            </a:pPr>
            <a:endParaRPr b="0" lang="en-US" sz="10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160720" y="6180120"/>
            <a:ext cx="38879280" cy="3364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676"/>
              </a:spcBef>
              <a:buNone/>
              <a:tabLst>
                <a:tab algn="l" pos="3078000"/>
                <a:tab algn="l" pos="6156360"/>
                <a:tab algn="l" pos="9234360"/>
              </a:tabLst>
            </a:pPr>
            <a:endParaRPr b="0" lang="en-US" sz="10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52CDC-D09C-45F2-B611-A49179282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160720" y="428400"/>
            <a:ext cx="38879280" cy="1780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8000"/>
                <a:tab algn="l" pos="6156360"/>
                <a:tab algn="l" pos="9234360"/>
              </a:tabLst>
            </a:pPr>
            <a:r>
              <a:rPr b="0" lang="en-US" sz="147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160720" y="2495160"/>
            <a:ext cx="38879280" cy="7054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 fontScale="50000"/>
          </a:bodyPr>
          <a:p>
            <a:pPr marL="576000" indent="-576000">
              <a:spcBef>
                <a:spcPts val="2676"/>
              </a:spcBef>
              <a:buClr>
                <a:srgbClr val="000000"/>
              </a:buClr>
              <a:buFont typeface="Arial"/>
              <a:buChar char="•"/>
              <a:tabLst>
                <a:tab algn="l" pos="3078000"/>
                <a:tab algn="l" pos="6156360"/>
                <a:tab algn="l" pos="9234360"/>
              </a:tabLst>
            </a:pPr>
            <a:r>
              <a:rPr b="0" lang="en-US" sz="107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0700" spc="-1" strike="noStrike">
              <a:solidFill>
                <a:srgbClr val="000000"/>
              </a:solidFill>
              <a:latin typeface="Calibri"/>
            </a:endParaRPr>
          </a:p>
          <a:p>
            <a:pPr lvl="1" marL="1249920" indent="-480240">
              <a:spcBef>
                <a:spcPts val="2676"/>
              </a:spcBef>
              <a:buClr>
                <a:srgbClr val="000000"/>
              </a:buClr>
              <a:buFont typeface="Arial"/>
              <a:buChar char="–"/>
              <a:tabLst>
                <a:tab algn="l" pos="3078000"/>
                <a:tab algn="l" pos="6156360"/>
                <a:tab algn="l" pos="9234360"/>
              </a:tabLst>
            </a:pPr>
            <a:r>
              <a:rPr b="0" lang="en-US" sz="107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0700" spc="-1" strike="noStrike">
              <a:solidFill>
                <a:srgbClr val="000000"/>
              </a:solidFill>
              <a:latin typeface="Calibri"/>
            </a:endParaRPr>
          </a:p>
          <a:p>
            <a:pPr lvl="2" marL="1923840" indent="-384120">
              <a:spcBef>
                <a:spcPts val="2676"/>
              </a:spcBef>
              <a:buClr>
                <a:srgbClr val="000000"/>
              </a:buClr>
              <a:buFont typeface="Arial"/>
              <a:buChar char="•"/>
              <a:tabLst>
                <a:tab algn="l" pos="3078000"/>
                <a:tab algn="l" pos="6156360"/>
                <a:tab algn="l" pos="9234360"/>
              </a:tabLst>
            </a:pPr>
            <a:r>
              <a:rPr b="0" lang="en-US" sz="107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0700" spc="-1" strike="noStrike">
              <a:solidFill>
                <a:srgbClr val="000000"/>
              </a:solidFill>
              <a:latin typeface="Calibri"/>
            </a:endParaRPr>
          </a:p>
          <a:p>
            <a:pPr lvl="3" marL="2693880" indent="-384120">
              <a:spcBef>
                <a:spcPts val="2676"/>
              </a:spcBef>
              <a:buClr>
                <a:srgbClr val="000000"/>
              </a:buClr>
              <a:buFont typeface="Arial"/>
              <a:buChar char="–"/>
              <a:tabLst>
                <a:tab algn="l" pos="3078000"/>
                <a:tab algn="l" pos="6156360"/>
                <a:tab algn="l" pos="9234360"/>
              </a:tabLst>
            </a:pPr>
            <a:r>
              <a:rPr b="0" lang="en-US" sz="107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0700" spc="-1" strike="noStrike">
              <a:solidFill>
                <a:srgbClr val="000000"/>
              </a:solidFill>
              <a:latin typeface="Calibri"/>
            </a:endParaRPr>
          </a:p>
          <a:p>
            <a:pPr lvl="4" marL="3463920" indent="-384120">
              <a:spcBef>
                <a:spcPts val="2676"/>
              </a:spcBef>
              <a:buClr>
                <a:srgbClr val="000000"/>
              </a:buClr>
              <a:buFont typeface="Arial"/>
              <a:buChar char="»"/>
              <a:tabLst>
                <a:tab algn="l" pos="3078000"/>
                <a:tab algn="l" pos="6156360"/>
                <a:tab algn="l" pos="9234360"/>
              </a:tabLst>
            </a:pPr>
            <a:r>
              <a:rPr b="0" lang="en-US" sz="107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0700" spc="-1" strike="noStrike">
              <a:solidFill>
                <a:srgbClr val="000000"/>
              </a:solidFill>
              <a:latin typeface="Calibri"/>
            </a:endParaRPr>
          </a:p>
          <a:p>
            <a:pPr lvl="5" marL="3463920" indent="-384120">
              <a:spcBef>
                <a:spcPts val="2676"/>
              </a:spcBef>
              <a:buClr>
                <a:srgbClr val="000000"/>
              </a:buClr>
              <a:buFont typeface="Arial"/>
              <a:buChar char="»"/>
              <a:tabLst>
                <a:tab algn="l" pos="3078000"/>
                <a:tab algn="l" pos="6156360"/>
                <a:tab algn="l" pos="9234360"/>
              </a:tabLst>
            </a:pPr>
            <a:r>
              <a:rPr b="0" lang="en-US" sz="107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0700" spc="-1" strike="noStrike">
              <a:solidFill>
                <a:srgbClr val="000000"/>
              </a:solidFill>
              <a:latin typeface="Calibri"/>
            </a:endParaRPr>
          </a:p>
          <a:p>
            <a:pPr lvl="6" marL="3463920" indent="-384120">
              <a:spcBef>
                <a:spcPts val="2676"/>
              </a:spcBef>
              <a:buClr>
                <a:srgbClr val="000000"/>
              </a:buClr>
              <a:buFont typeface="Arial"/>
              <a:buChar char="»"/>
              <a:tabLst>
                <a:tab algn="l" pos="3078000"/>
                <a:tab algn="l" pos="6156360"/>
                <a:tab algn="l" pos="9234360"/>
              </a:tabLst>
            </a:pPr>
            <a:r>
              <a:rPr b="0" lang="en-US" sz="107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0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160360" y="9909000"/>
            <a:ext cx="10078920" cy="5702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3078000"/>
                <a:tab algn="l" pos="6156360"/>
                <a:tab algn="l" pos="9234360"/>
              </a:tabLst>
              <a:defRPr b="0" lang="ja-JP" sz="40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3078000"/>
                <a:tab algn="l" pos="6156360"/>
                <a:tab algn="l" pos="9234360"/>
              </a:tabLst>
            </a:pPr>
            <a:r>
              <a:rPr b="0" lang="ja-JP" sz="40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760720" y="9909000"/>
            <a:ext cx="13679280" cy="5702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>
              <a:buNone/>
              <a:tabLst>
                <a:tab algn="l" pos="0"/>
                <a:tab algn="l" pos="3078000"/>
                <a:tab algn="l" pos="6156360"/>
                <a:tab algn="l" pos="923436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960720" y="9909000"/>
            <a:ext cx="10078920" cy="5702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3078000"/>
                <a:tab algn="l" pos="6156360"/>
                <a:tab algn="l" pos="9234360"/>
              </a:tabLst>
              <a:defRPr b="0" lang="ja-JP" sz="40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3078000"/>
                <a:tab algn="l" pos="6156360"/>
                <a:tab algn="l" pos="9234360"/>
              </a:tabLst>
            </a:pPr>
            <a:fld id="{B5D0DCA6-6FBF-4466-8D48-F45E63677C9A}" type="slidenum">
              <a:rPr b="0" lang="ja-JP" sz="4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図 22" descr="ilm20_ad03007-s.png"/>
          <p:cNvPicPr/>
          <p:nvPr/>
        </p:nvPicPr>
        <p:blipFill>
          <a:blip r:embed="rId1"/>
          <a:stretch/>
        </p:blipFill>
        <p:spPr>
          <a:xfrm>
            <a:off x="3009960" y="914400"/>
            <a:ext cx="2854440" cy="9107640"/>
          </a:xfrm>
          <a:prstGeom prst="rect">
            <a:avLst/>
          </a:prstGeom>
          <a:ln w="0">
            <a:noFill/>
          </a:ln>
        </p:spPr>
      </p:pic>
      <p:sp>
        <p:nvSpPr>
          <p:cNvPr id="42" name="直線コネクタ 3"/>
          <p:cNvSpPr/>
          <p:nvPr/>
        </p:nvSpPr>
        <p:spPr>
          <a:xfrm flipH="1">
            <a:off x="555480" y="1420920"/>
            <a:ext cx="7693200" cy="7692840"/>
          </a:xfrm>
          <a:prstGeom prst="line">
            <a:avLst/>
          </a:prstGeom>
          <a:ln w="1270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直線コネクタ 26"/>
          <p:cNvSpPr/>
          <p:nvPr/>
        </p:nvSpPr>
        <p:spPr>
          <a:xfrm>
            <a:off x="555480" y="1579680"/>
            <a:ext cx="7693200" cy="7691400"/>
          </a:xfrm>
          <a:prstGeom prst="line">
            <a:avLst/>
          </a:prstGeom>
          <a:ln w="1270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正方形/長方形 4"/>
          <p:cNvSpPr/>
          <p:nvPr/>
        </p:nvSpPr>
        <p:spPr>
          <a:xfrm>
            <a:off x="8877240" y="0"/>
            <a:ext cx="34318800" cy="1069164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078000"/>
                <a:tab algn="l" pos="6156360"/>
                <a:tab algn="l" pos="923436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122600" y="4862520"/>
            <a:ext cx="36723960" cy="229248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078000"/>
                <a:tab algn="l" pos="6156360"/>
                <a:tab algn="l" pos="9234360"/>
              </a:tabLst>
            </a:pPr>
            <a:r>
              <a:rPr b="0" lang="ja-JP" sz="23000" spc="-1" strike="noStrike">
                <a:solidFill>
                  <a:srgbClr val="ffffff"/>
                </a:solidFill>
                <a:latin typeface="小塚ゴシック Pro H"/>
                <a:ea typeface="小塚ゴシック Pro H"/>
              </a:rPr>
              <a:t>ペットボトルを</a:t>
            </a:r>
            <a:br>
              <a:rPr sz="23000"/>
            </a:br>
            <a:r>
              <a:rPr b="0" lang="ja-JP" sz="23000" spc="-1" strike="noStrike">
                <a:solidFill>
                  <a:srgbClr val="ffffff"/>
                </a:solidFill>
                <a:latin typeface="小塚ゴシック Pro H"/>
                <a:ea typeface="小塚ゴシック Pro H"/>
              </a:rPr>
              <a:t>　  出す日ではありません。</a:t>
            </a:r>
            <a:endParaRPr b="0" lang="en-US" sz="2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タイトル 1"/>
          <p:cNvSpPr/>
          <p:nvPr/>
        </p:nvSpPr>
        <p:spPr>
          <a:xfrm>
            <a:off x="8877240" y="8742240"/>
            <a:ext cx="34323480" cy="229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08160" rIns="308160" tIns="154080" bIns="154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079800"/>
                <a:tab algn="l" pos="6159600"/>
                <a:tab algn="l" pos="9239400"/>
              </a:tabLst>
            </a:pPr>
            <a:r>
              <a:rPr b="0" lang="ja-JP" sz="6400" spc="-1" strike="noStrike">
                <a:solidFill>
                  <a:srgbClr val="ffffff"/>
                </a:solidFill>
                <a:latin typeface="小塚ゴシック Pro H"/>
                <a:ea typeface="小塚ゴシック Pro H"/>
              </a:rPr>
              <a:t>缶・ビンは袋に入っていると回収されません。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角丸四角形 7"/>
          <p:cNvSpPr/>
          <p:nvPr/>
        </p:nvSpPr>
        <p:spPr>
          <a:xfrm>
            <a:off x="9213840" y="503280"/>
            <a:ext cx="33693120" cy="1542960"/>
          </a:xfrm>
          <a:prstGeom prst="roundRect">
            <a:avLst>
              <a:gd name="adj" fmla="val 50000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078000"/>
                <a:tab algn="l" pos="6156360"/>
                <a:tab algn="l" pos="923436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タイトル 1"/>
          <p:cNvSpPr/>
          <p:nvPr/>
        </p:nvSpPr>
        <p:spPr>
          <a:xfrm>
            <a:off x="8897760" y="671400"/>
            <a:ext cx="34323480" cy="15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08160" rIns="308160" tIns="154080" bIns="154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079800"/>
                <a:tab algn="l" pos="6159600"/>
                <a:tab algn="l" pos="9239400"/>
              </a:tabLst>
            </a:pPr>
            <a:r>
              <a:rPr b="0" lang="ja-JP" sz="8800" spc="-1" strike="noStrike">
                <a:solidFill>
                  <a:srgbClr val="000000"/>
                </a:solidFill>
                <a:latin typeface="小塚ゴシック Pro H"/>
                <a:ea typeface="小塚ゴシック Pro H"/>
              </a:rPr>
              <a:t>ゴミの排出方法を守りましょう。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2T07:53:09Z</dcterms:created>
  <dc:creator>seisaku</dc:creator>
  <dc:description/>
  <dc:language>en-US</dc:language>
  <cp:lastModifiedBy>VISION</cp:lastModifiedBy>
  <dcterms:modified xsi:type="dcterms:W3CDTF">2015-09-24T04:39:13Z</dcterms:modified>
  <cp:revision>37</cp:revision>
  <dc:subject/>
  <dc:title>スライド 1</dc:title>
</cp:coreProperties>
</file>